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42C-B66B-4B50-80EE-74D85692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E58-CE39-4158-B2B8-2B098CF5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D09-2370-4E7C-BCA0-7336CE6F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DBF-9B6E-4526-B8BD-D505663C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66A8-6F61-4828-B0A9-DB6E0774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4AFB-8A37-497E-B866-23C81E45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AD73-75CA-4A07-B3D0-C03D491B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9924-23CA-4AD1-9B78-C1A2B16D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217E-8B24-4F4B-A6A7-DA22B02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E41C-8105-4CC5-A178-A8C617D7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0967-50F2-4E30-8C44-F758E95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600-68F5-47A9-823D-CC1D2083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01D7-4402-48B5-97C8-3B8DEB03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42AF-47EB-4017-AF98-1F49A1F7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3804-38F2-4A15-BA62-1DFF2235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8DDC-422D-4CB2-A641-1F549B10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D554-AB58-47E1-9120-D73D9E6B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3D8-EB2A-4594-A9B1-EEC6CD85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591-DF4A-48C7-9BCF-9C2F5501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411-D85D-4F52-A6B9-0FF70AA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2D9-8766-46DC-A18D-E3F5E533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EA9-90BF-4B5F-82EE-553E8D4D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2FC-F4C2-4D79-83C9-28C2F1F1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510-555B-40A6-BA76-F6995C25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BF9A-0B58-4870-8707-357F1A9981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DA81-0518-4811-A07B-A48CFA6EEFD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" Target="slide82.xm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Titration Curv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base titration cur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plot of the pH of a solution of acid (or base) against the volume of added base (or acid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89040" y="388764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uch curves are used to gain insight into the titration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9040" y="472608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You can use titration curves to choose an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ppropriate indicator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hat will show when the titration is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794-E52C-46F2-A3B9-584868BFA554}" type="slidenum">
              <a:t>1</a:t>
            </a:fld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a solution in which 10.0 mL of 0.100 M NaOH is added to 25.0 mL of 0.100 M HC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3392640"/>
            <a:ext cx="8001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077920" y="4191120"/>
                <a:ext cx="4873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2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BA9-698F-4F39-A266-319D3884B655}" type="slidenum">
              <a:t>10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itration of a weak acid by a strong base gives a somewhat different cur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97180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 range of these titrations is shor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quivalence point will be on the basic sid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nce the salt produced contains the anion of a weak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Figure 17.13 shows the curve for the titration of nicotinic acid with NaO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52400" y="277920"/>
            <a:ext cx="756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itration of a Strong Acid by a Strong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D64-34E3-48D6-85D7-4F6A01D880F1}" type="slidenum">
              <a:t>11</a:t>
            </a:fld>
          </a:p>
        </p:txBody>
      </p:sp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1000" y="1600200"/>
            <a:ext cx="8183520" cy="4952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bb4"/>
                </a:solidFill>
                <a:latin typeface="Garamond"/>
              </a:rPr>
              <a:t>Figure 17.13: Curve for the titration of a weak acid by a strong base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65B-F1A6-4939-ACEF-361C5D6A1339}" type="slidenum">
              <a:t>12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the solution at the equivalence point when 25.0 mL of 0.10 M acetic acid is titrated with 0.10 M sodium hydroxide.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acetic acid is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87240" y="4495680"/>
            <a:ext cx="77695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t the equivalence point, equal molar amounts of acetic acid and sodium hydroxide react to give sodium ace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54B-63A1-4F39-9427-674BCE68DF6F}" type="slidenum">
              <a:t>13</a:t>
            </a:fld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the solution at the equivalence point when 25.0 mL of 0.10 M acetic acid is titrated with 0.10 M sodium hydroxide.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acetic acid is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87240" y="4421160"/>
            <a:ext cx="7769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First, calculate the concentration of the acetate 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240" y="5183280"/>
            <a:ext cx="7769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this case, 25.0 mL of 0.10 M NaOH is needed to react with 25.0 mL of 0.10 M acetic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4BB-4782-4A79-9AE5-5CDDCC0448B4}" type="slidenum">
              <a:t>14</a:t>
            </a:fld>
          </a:p>
        </p:txBody>
      </p:sp>
    </p:spTree>
  </p:cSld>
  <p:transition spd="med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the solution at the equivalence point when 25.0 mL of 0.10 M acetic acid is titrated with 0.10 M sodium hydroxide.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acetic acid is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87240" y="4343400"/>
            <a:ext cx="776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molar amount of acetate ion formed equals the initial molar amount of acetic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8480" y="5302080"/>
                <a:ext cx="43642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L soln 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rPr>
                            <m:lit/>
                            <m:nor/>
                          </m:rPr>
                          <m:t xml:space="preserve">mol acetate io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 sol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029200" y="5389560"/>
                <a:ext cx="31399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 acetate 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74A-654B-4935-8EF2-5774C31A0B09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the solution at the equivalence point when 25.0 mL of 0.10 M acetic acid is titrated with 0.10 M sodium hydroxide.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acetic acid is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687240" y="4419720"/>
            <a:ext cx="7769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total volume of the solution is 50.0 mL. H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95360" y="5151600"/>
                <a:ext cx="81360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ar</m:t>
                    </m:r>
                    <m:r>
                      <m:rPr>
                        <m:lit/>
                        <m:nor/>
                      </m:rPr>
                      <m:t xml:space="preserve">concentratio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88E-23D8-4F0A-9FDF-5E7741F49161}" type="slidenum">
              <a:t>16</a:t>
            </a:fld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the solution at the equivalence point when 25.0 mL of 0.10 M acetic acid is titrated with 0.10 M sodium hydroxide. 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acetic acid is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25780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You find the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for the acetate ion to be 5.9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nd that the concentration of the hydroxide ion is 5.4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6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 pH is 8.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040" y="4343400"/>
            <a:ext cx="83059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hydrolysis of the acetate ion follows the method given in an earlier section of this chap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3B4-8293-4BBA-9CE9-3BE60A27D3C5}" type="slidenum">
              <a:t>17</a:t>
            </a:fld>
          </a:p>
        </p:txBody>
      </p:sp>
    </p:spTree>
  </p:cSld>
  <p:transition spd="med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itration of a weak base with a strong acid is a reflection of our previous ex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68160" y="3314880"/>
            <a:ext cx="776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Figure 17.14 shows the titration of N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with HC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960" y="3754440"/>
            <a:ext cx="77691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this case, the pH declines slowly at first, then falls abruptly from about pH 7 to pH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Methyl red, which changes color from yellow at pH 6 to red at pH 4.8, is a possible indic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752400" y="277920"/>
            <a:ext cx="756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itration of a Strong Acid by a Strong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ADC-88F0-4187-B4ED-312D3D4E2310}" type="slidenum">
              <a:t>18</a:t>
            </a:fld>
          </a:p>
        </p:txBody>
      </p:sp>
    </p:spTree>
  </p:cSld>
  <p:transition spd="med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bb4"/>
                </a:solidFill>
                <a:latin typeface="Garamond"/>
              </a:rPr>
              <a:t>Figure 17.14: Curve for the titration of a weak base by a strong acid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191-99FC-44EB-9A56-9FBAAB009F7F}" type="slidenum">
              <a:t>19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2400" y="277920"/>
            <a:ext cx="756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itration of a Strong Acid by a Strong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gure 17.12 shows a curve for the titration of HCl with NaO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89548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Note that the pH changes slowly until the titration approaches the equivalenc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88620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equivalence point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the point in a titration when a stoichiometric amount of reactant has been 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018-A5EF-4506-93FA-4C6C738AC8E8}" type="slidenum">
              <a:t>2</a:t>
            </a:fld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Operational Skill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ing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ing the pH of a solution of a strong acid and a strong 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ing the pH at the equivalence point in the titration of a weak cid with a strong 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427-D543-4B1C-9CB5-94F22D27136E}" type="slidenum">
              <a:t>20</a:t>
            </a:fld>
          </a:p>
        </p:txBody>
      </p:sp>
    </p:spTree>
  </p:cSld>
  <p:transition spd="med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240" y="456840"/>
            <a:ext cx="1828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Garamond"/>
              </a:rPr>
              <a:t>Figure 17.8: A pH meter reading NH</a:t>
            </a:r>
            <a:r>
              <a:rPr b="0" lang="en-US" sz="2800" spc="-1" strike="noStrike" baseline="-25000">
                <a:solidFill>
                  <a:srgbClr val="666699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666699"/>
                </a:solidFill>
                <a:latin typeface="Garamond"/>
              </a:rPr>
              <a:t>Cl.</a:t>
            </a:r>
            <a:r>
              <a:rPr b="0" lang="en-US" sz="1800" spc="-1" strike="noStrike">
                <a:solidFill>
                  <a:srgbClr val="666699"/>
                </a:solidFill>
                <a:latin typeface="Garamond"/>
              </a:rPr>
              <a:t>  </a:t>
            </a:r>
            <a:br>
              <a:rPr sz="1800"/>
            </a:br>
            <a:r>
              <a:rPr b="0" i="1" lang="en-US" sz="1800" spc="-1" strike="noStrike">
                <a:solidFill>
                  <a:srgbClr val="666699"/>
                </a:solidFill>
                <a:latin typeface="Garamond"/>
              </a:rPr>
              <a:t>Photo courtesy of American Color.</a:t>
            </a:r>
            <a:endParaRPr b="0" lang="en-US" sz="18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152800" y="380880"/>
            <a:ext cx="6858000" cy="57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152280" y="58514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Return to slide 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9FF-3F75-4F4F-B7AF-007C2FDDBA64}" type="slidenum">
              <a:t>21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3200" y="1371600"/>
            <a:ext cx="8629920" cy="5181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39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bb4"/>
                </a:solidFill>
                <a:latin typeface="Garamond"/>
              </a:rPr>
              <a:t>Figure 17.12: Curve for the titration of a strong acid by a strong base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A23-6FB0-4E22-A44A-8C8F1DC209E0}" type="slidenum">
              <a:t>3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gure 17.12 shows a curve for the titration of HCl with NaO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89548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t the equivalence point, the pH of the solution is 7.0 because it contains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 salt, NaCl, that does not hydrolyz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3448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owever, the pH changes rapidly from a pH of about 3 to a pH of about 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52400" y="277920"/>
            <a:ext cx="756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itration of a Strong Acid by a Strong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6B3-9DE4-4FD9-A882-6DDC6C3398CA}" type="slidenum">
              <a:t>4</a:t>
            </a:fld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gure 17.12 shows a curve for the titration of HCl with NaO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8972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o detect the equivalence point, you need 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cid-base indicato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that changes color within the pH range 3-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34196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henolphthalein can be used because it changes color in the pH range 8.2-10. (see Figure 16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752400" y="277920"/>
            <a:ext cx="756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itration of a Strong Acid by a Strong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867-F34C-4321-8A95-6AADBE8C56FC}" type="slidenum">
              <a:t>5</a:t>
            </a:fld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a solution in which 10.0 mL of 0.100 M NaOH is added to 25.0 mL of 0.100 M HC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9520" y="3506760"/>
            <a:ext cx="8724600" cy="4113360"/>
            <a:chOff x="209520" y="3506760"/>
            <a:chExt cx="8724600" cy="4113360"/>
          </a:xfrm>
        </p:grpSpPr>
        <p:sp>
          <p:nvSpPr>
            <p:cNvPr id="113" name=""/>
            <p:cNvSpPr/>
            <p:nvPr/>
          </p:nvSpPr>
          <p:spPr>
            <a:xfrm>
              <a:off x="209520" y="3506760"/>
              <a:ext cx="847224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76bb4"/>
                  </a:solidFill>
                  <a:latin typeface="Arial"/>
                </a:rPr>
                <a:t>Because the reactants are a strong acid and a strong base, the reaction is essentially complet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462240" y="4802040"/>
                  <a:ext cx="84718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→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71F-0138-4092-8B6F-71FEB8ECC729}" type="slidenum">
              <a:t>6</a:t>
            </a:fld>
          </a:p>
        </p:txBody>
      </p:sp>
    </p:spTree>
  </p:cSld>
  <p:transition spd="med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a solution in which 10.0 mL of 0.100 M NaOH is added to 25.0 mL of 0.100 M HC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66720" y="346860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get the amounts of reactants by multiplying the volume of each (in liters) by their respective molar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2560" y="4800600"/>
            <a:ext cx="7851960" cy="1187280"/>
            <a:chOff x="682560" y="4800600"/>
            <a:chExt cx="7851960" cy="11872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682560" y="4800600"/>
                  <a:ext cx="785196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l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50</m:t>
                      </m:r>
                      <m:r>
                        <m:t xml:space="preserve">L</m:t>
                      </m:r>
                      <m:r>
                        <m:t xml:space="preserve">×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mol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250</m:t>
                      </m:r>
                      <m:r>
                        <m:rPr>
                          <m:lit/>
                          <m:nor/>
                        </m:rPr>
                        <m:t xml:space="preserve"> mo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6800" y="5486400"/>
                  <a:ext cx="757872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ol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00</m:t>
                      </m:r>
                      <m:r>
                        <m:t xml:space="preserve">L</m:t>
                      </m:r>
                      <m:r>
                        <m:t xml:space="preserve">×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mol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100</m:t>
                      </m:r>
                      <m:r>
                        <m:rPr>
                          <m:lit/>
                          <m:nor/>
                        </m:rPr>
                        <m:t xml:space="preserve"> mo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4A7-168F-4657-9EE5-BF72EF2C6325}" type="slidenum">
              <a:t>7</a:t>
            </a:fld>
          </a:p>
        </p:txBody>
      </p:sp>
    </p:spTree>
  </p:cSld>
  <p:transition spd="med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a solution in which 10.0 mL of 0.100 M NaOH is added to 25.0 mL of 0.100 M HC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71680" y="346860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ll of the OH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acts, leaving an excess of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3962520"/>
            <a:ext cx="7202520" cy="1420560"/>
            <a:chOff x="914400" y="3962520"/>
            <a:chExt cx="7202520" cy="14205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914400" y="3962520"/>
              <a:ext cx="7202520" cy="582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409920" y="4800600"/>
                  <a:ext cx="37530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00150 mol 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785-DFDD-434D-BDFC-F22FD47A8032}" type="slidenum">
              <a:t>8</a:t>
            </a:fld>
          </a:p>
        </p:txBody>
      </p:sp>
    </p:spTree>
  </p:cSld>
  <p:transition spd="med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pH of a solution in which 10.0 mL of 0.100 M NaOH is added to 25.0 mL of 0.100 M HC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71680" y="3505320"/>
            <a:ext cx="800100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You obtain the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oncentration by dividing the mol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by the total volume of solution (=0.0250 L + 0.0100 L=0.0350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92120" y="4916520"/>
                <a:ext cx="62452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50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0 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29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3DC-2814-4A63-B30D-C4FB1ED6976B}" type="slidenum">
              <a:t>9</a:t>
            </a:fld>
          </a:p>
        </p:txBody>
      </p:sp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Cook</dc:creator>
  <dc:description/>
  <cp:keywords/>
  <dc:language>en-US</dc:language>
  <cp:lastModifiedBy>C363966</cp:lastModifiedBy>
  <dcterms:modified xsi:type="dcterms:W3CDTF">2014-04-10T18:01:09Z</dcterms:modified>
  <cp:revision>194</cp:revision>
  <dc:subject>Chapter 17</dc:subject>
  <dc:title>Acid-Base Equilibria</dc:title>
</cp:coreProperties>
</file>